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517C-8956-469F-A267-89CA7A0E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FB77-5776-49CF-A4D9-9F43F27A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AE092-5FED-430A-9380-DCD73506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876BF-C368-4190-AA88-D3A80535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DA9FF-7B46-499D-BEEF-BBDBB5B0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FCD54-443C-4057-8757-DB46EE45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EB511-B8E2-40A1-9E21-C803A2A1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0E806-98FE-499E-81DB-69CF3856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A029C-71AB-4B99-9402-93A8DAF2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5AD02-9416-451E-9449-117FC047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49069B-BD89-4C7C-B359-80DD2315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7B3C0-CAFA-4E78-82BD-48CE81CE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FBD5-B7C4-4B53-8DA2-10EEAAFF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A3B5A-011A-43B0-8F4A-3EC8A0D8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AD32E-33A0-48D4-8430-97074597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9D8E9-87EB-43D9-9264-0A8720CB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36367-7F9F-45AD-9402-BA53CCA6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FCF6B-3755-4CA3-BABF-1621E9CC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90C23-34A9-4164-893B-37B92D7B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B24E0-6414-4A95-A82A-9F82BF50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ACDD7-8CCA-465C-A0F7-CDAE9887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F2127-C602-419F-9B7B-EC3DE0A1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38107-1374-41CC-BD5A-0EB6E567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033-8D15-4896-AD75-19D50ABF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3B8F1-2149-41EF-B47C-FDFD7B36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B0409-83A4-4713-9686-B65B2C19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5C69D-C66C-44E4-8152-46558493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76C6D-53D1-4807-A58E-08E7855A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02662-711A-4B27-AD08-880DEC88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9C534-EF53-41A5-A0A1-3D448BE2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AAC24-9B1B-42E1-A188-AA00232B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DBBA1-169A-453F-BCAB-1D8282F2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9599A-CEA9-4D06-A023-15BE2F38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4C3DD-72DB-4C0E-9CBB-82AEDFDF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9D28-4365-41E6-BED3-70A2B132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071B8-C529-422D-AFF3-C3FBBC0A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74CB9-8322-4150-9D17-2506F5F2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A6CA5-E7A7-4C8A-B52E-74E627C5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081E4-39AF-472A-B86B-10F3ECB6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A532C-F157-4546-8FD4-3DDB2493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5CDAC-0191-4572-AE0B-3CE1EB2B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F9217-6DDC-4D2B-9F6C-58CC858A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DEB44-107A-4F10-AA0B-FD8BC11F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D6863-A04E-42EB-8181-F2FDFDA4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72EEB-B08E-4E08-89A4-93C4D6AC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2464-3BC8-4E61-8C88-B861B3F7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368FD-2F75-4032-A226-7EC5BC28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616A9-8CDF-43A6-A9F8-9BEBA3C4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BCC8B-1121-447B-820B-D06B9A74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92F37-AADA-4C6D-9C79-98341923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C9079-AD0D-4E29-A5C5-E267E815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289C15-BAF5-464B-AF06-E9371471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A7924-E3FB-4205-AD4C-B3903A9B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D3AF6C-4D23-4D01-8D7E-C35F9FB0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1FBE5-2CDC-477E-8314-EB3B501C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BE466-5DC7-4E92-A4E1-DE7350F1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BB0C-F719-46DB-9509-39B5F616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45E196-927F-42A6-B3BC-141AD0AE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032040-169E-4FD5-A1CF-3A1F0775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9EEE6-6A8E-410B-96DC-B311462A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336C5-3F2F-4014-ACB1-F9C0C13B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9A9EF-0F0E-4782-8CE5-64EF10CC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CB43C8-B390-41CF-8BFF-234A7266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856636-2F53-448B-A7C9-9176C7D5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D39B56-727C-40F1-8456-1CB8FEE6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ACE568-391E-42BE-886A-BD9BE5E0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AF0C01-1C21-4C83-921B-9DD57BC5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986C-896F-4963-A19F-6C136F36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EDF61D-86B3-4581-8904-7B3F294B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227E82-8B37-4C78-A724-6AB7916F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13E7F1-5135-44F9-959C-FA89B3AF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F21D94-F8AE-406F-B1D2-E9DC26B7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F5288-B279-4BEB-8712-FD462951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783300-48FB-4E9A-B303-7657B755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2E889C-947F-4799-8E96-92E1CE09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0550C2-752C-43B7-B5A9-7D9B11EF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C901CF-4FBA-4DB5-AF2E-3DDD5EE1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5BE8CE-6163-4F97-B937-C76E1D7B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E0B0-B7CC-447F-9B55-16185447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4C3605-D812-4A6B-ABC4-6F083ECF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1AA1EE-BC07-4268-8319-5FBC2C44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71515B-D6BA-42AC-A1DD-348A6229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8B71BC-060E-4224-A91C-7207ADD8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CCBE18-6D1E-4E8B-B8E4-AE1BB7AB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1F25C3-8647-45A7-A7C3-5B97FCB0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A94D55-771D-44FC-BDDF-17BB9177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7927C1-170E-48F0-B4E1-9ACBDD30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C62E9C-8B0D-4131-8FD8-5D394C95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E774E6-F931-4A7A-927A-86303C73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49CA-B48F-4E20-B75B-3832848A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32465E-6B6A-4C23-A333-9F837217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4A4629-C5E8-4AFF-A55F-CD9E8E7B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B64AAE-88BC-4F86-BBEA-F3E2F2C1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5E2CD7-E6B7-481D-918C-F09F0FBC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9041E3-F762-476B-B03E-E95D1EFE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4068D9-2692-4815-9F6E-E9174166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E097EE-F472-463E-8CEF-2F22C773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65B3C2-8F33-4B82-8E1A-F8A5ED42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17658D-74F9-4C75-A8B3-848DF23E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C058F9-2E19-4210-828B-558577EA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B182-5F35-4CBC-A285-96E79061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F81ADB-1341-4099-B3D9-11444FF2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3BE71E-BEF6-4DE4-B454-143A5D78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A917A6-6C11-4549-BA51-32DD28DF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8EAE83-D246-4F97-A720-D78EEB89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E52879-2F65-46D2-B02B-4252B844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BFC861-D679-4644-93F4-782FAD1B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84B015-8A9A-4B09-A622-4195E56A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7E79D3-2253-4758-A700-A150FC50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737944-DE24-46CF-8356-17CE71B0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3A3378-8A2E-4F08-91AC-5CB33DFF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C90B-59C0-4EF1-9BB3-2C4C426E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8A6A-E69D-4B26-97E7-6665169E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8A8D05-AA51-4625-83A3-D8DA1B0B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4E2942-86C9-4876-80BF-C849D4EA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23144D-5226-4438-ABAD-5E9D3EEE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699868-2809-43D6-970C-4B88E7BB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881365-E193-4884-AD92-56ADBDB0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C718-4F63-4B88-BF43-AD0327B0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D00A-5DD6-4F69-BF85-D55117EC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1E37-7E74-4631-8D33-B1371207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919C-3094-4B4E-834C-B10C2AF7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5E1EB-7A22-4824-8A9F-0ADD8D58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DB57D-9E72-480D-81D0-21C99664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05D5F-BF29-4196-A09E-89C636DC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0936A-AA89-4F2A-BE76-6290714D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42189-7EFC-4A3B-961D-B5786D0A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AEAE-0E12-4ED5-A954-F6AD13D7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98E48-07E2-4D3E-8016-E0F72920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5789F-3433-4090-BD3A-33655424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FEC51-3F99-488F-8DAE-AEFDAC7C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860AC-3CFD-4A63-9F82-866052DD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760D5-B375-4392-8E3A-7DB7C7A5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E9532-449E-4E7E-B68B-F916E1B7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EB696-5B94-43AA-A937-1FF3CE07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F4708-CD50-4D77-AFD8-4945399B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2045C-3D0D-4CDD-AF9D-667A48A2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BDD1C-27EE-42C7-9FF8-445C0DAC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8744-BEF5-40E1-81F3-5AA00DC6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03D83-7203-4198-AAA3-868F4C90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47C66-1A0B-4AB1-82D9-22381682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04463-239D-4346-A591-8FACAAB8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B86C4-A02A-4308-913C-AE2BF39F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30D83-F155-40AF-8887-399101A5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0A3DF-6EB7-4FD5-8DF3-5669657A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76BF0-9769-4405-907E-B0BFEA5A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DC8AC-A2AC-41A8-8BA2-7CC580BD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430E6-D8B7-4729-8AC6-EAA532D2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BCC52-3B91-4C61-ACB1-59A33C6E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772-72E4-41F2-B463-1D386E46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787B9-EE48-4490-95AF-6C657406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BA2B7-D44C-4C84-9FF3-9BE8A890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8C41D-5050-47C0-AABD-BCCB99D9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993B4-F7B5-4100-930A-DCBE3BF2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02895-DC5A-4A74-92A1-A5AB00EB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5BE29-DC83-49E4-B726-12100FA4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F60DC-A4A1-4B87-9C1C-6E967DC4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69232-C73B-4684-B671-FEC22C8B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3BB33-09DB-4CBA-B599-C908764E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40749-6CF1-4A6C-8E94-85E01FC5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F36C-3AAA-4058-8D35-50470C9B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5AC19-6A60-4A9C-BB60-21C6F35F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56403-1F55-452F-8485-B5B64C85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C2EF8-E748-4120-B54F-85D3ABB9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10487-E450-4899-9CF9-915C80D1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266BC-29CF-4157-8A14-80B6BEC9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09C4E-A114-4DD5-B0DF-33EA9CC7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FBDF9-5F14-45EE-AC76-D52FF139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68624-67C6-4187-878D-5D91A8C8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E7395-E504-4FA7-8B20-0379786E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263E1-8FF7-4AA7-80F8-0E58F025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4D69-292B-4549-BA5F-CE4F2190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19171-EF9F-42F7-9F08-41B1258B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2F231-5F37-4470-BA39-DECAE8BF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6A9F4-5C1A-4FB6-8A28-17DECD72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7988C-D554-4CF9-97B9-B3EE615A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08679-1774-4366-9603-EEA4B64E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D42A5-7884-47FE-87D8-E922D6BA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66DF7-3113-4EBE-A764-5733DF8B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9AD36-D1A6-44DC-8E20-F2EBBC56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3AD3B-D715-405A-AF3E-282241DA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365D3-80D9-4785-B442-49FFE90F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4C40-E753-4895-BA79-02FAF68E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7CA6B-5218-480A-A25B-F66DA4EC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89340-5E7B-4D52-A1E2-A3A149C5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CB221-CB85-4AC2-A9BF-8D7EF4AF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62CEB-0863-4ACA-9566-F3DF856E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A4BCE-9642-48BB-AA13-A242D5DD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FBF75-B587-45BC-B5B6-C35956E9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B2B10-574F-4D7B-986A-3FD8A997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FD376-49F3-4005-A21B-56E9959C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D00CF-05DB-4DC5-8AD1-5C11B778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B9209-5602-4C59-B5BD-8E9D974D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F4F-34C3-4B61-AC9C-8E101BF9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B1224-D48D-4AFA-B0AE-0E1B162D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69269-78FC-4397-A2E2-93C38DC7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3729E-2912-4B62-AE1C-118BBBAE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02481-47B0-4ADA-B761-35A628BD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E50D3-1F07-41AC-9DA7-558A2306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12A16-7F58-45DF-901B-80B8D15E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FBA29-E109-40CA-BD46-A13470A6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73839-C6C5-49D0-86A8-788644B7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D9901-3458-4487-9F5D-49D6F30F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A1DE0-410A-419D-8B4A-5A0AA3DD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EF7A-D3E0-4654-B623-E7AE8F5C04F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2880" y="491112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39816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AFF8-EFCF-4D9B-BE70-21C53B85A05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2880" y="31773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39816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DA24-0A1C-455E-8D6D-F8FBDB7DBFC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2880" y="31773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185112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833580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39816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F934-1391-4892-A81C-EA692DFB0CA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2880" y="491112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39816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8FB2-974C-46EF-B5DA-A4D6C777F51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2880" y="491112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185112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833580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39816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10D6-F471-4EA0-BD7C-00CEE015970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2880" y="491112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39816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4B08-72C5-47F4-B80A-CB4F8CF2C52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76C4-E7A7-4B0D-88DD-A21FB05E13B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9E29-B9EE-4A24-8F19-B685E9EF5FF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30824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398160" y="452916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2E71-6D9D-4BA9-8A7B-D3E0FA4C827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B919-3B51-4DBD-A96A-8450D32544B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2880" y="31773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39816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C85C-5B93-4454-A8B7-CADFCEA639D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EA11-E7EB-4024-A6BF-10A492E6208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E7EC-8033-455D-8870-E8CB741E1E8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F9C1-2E52-4815-A08F-F85ACD579D7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D62A-DAD8-4FA8-8234-B988AD574BB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2DAD-AEFF-44B4-8932-8F0E866C518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941480" y="1773000"/>
            <a:ext cx="6686640" cy="300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900" spc="-1" strike="noStrike">
                <a:solidFill>
                  <a:srgbClr val="178dbb"/>
                </a:solidFill>
                <a:latin typeface="Century Gothic"/>
              </a:rPr>
              <a:t>ИЗМЕНЕНИЯ в тестовой части ОГЭ </a:t>
            </a:r>
            <a:r>
              <a:rPr b="1" lang="ru-RU" sz="4900" spc="-1" strike="noStrike">
                <a:solidFill>
                  <a:srgbClr val="178dbb"/>
                </a:solidFill>
                <a:latin typeface="Century Gothic"/>
              </a:rPr>
              <a:t>по русскому языку</a:t>
            </a:r>
            <a:br>
              <a:rPr sz="4900"/>
            </a:br>
            <a:endParaRPr b="0" lang="en-US" sz="49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1941480" y="4776480"/>
            <a:ext cx="6686640" cy="14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95959"/>
                </a:solidFill>
                <a:latin typeface="Century Gothic"/>
              </a:rPr>
              <a:t>  </a:t>
            </a:r>
            <a:r>
              <a:rPr b="1" lang="ru-RU" sz="3200" spc="-1" strike="noStrike">
                <a:solidFill>
                  <a:srgbClr val="595959"/>
                </a:solidFill>
                <a:latin typeface="Century Gothic"/>
              </a:rPr>
              <a:t>Практические рекомендации для подготовки выпускников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274400" y="259920"/>
            <a:ext cx="6683400" cy="7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Задание 7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211" name="Picture 2" descr=""/>
          <p:cNvPicPr/>
          <p:nvPr/>
        </p:nvPicPr>
        <p:blipFill>
          <a:blip r:embed="rId1"/>
          <a:srcRect l="11571" t="38735" r="8737" b="33642"/>
          <a:stretch/>
        </p:blipFill>
        <p:spPr>
          <a:xfrm>
            <a:off x="611280" y="2276640"/>
            <a:ext cx="8031240" cy="2089080"/>
          </a:xfrm>
          <a:prstGeom prst="rect">
            <a:avLst/>
          </a:prstGeom>
          <a:ln w="0">
            <a:noFill/>
          </a:ln>
        </p:spPr>
      </p:pic>
      <p:sp>
        <p:nvSpPr>
          <p:cNvPr id="1212" name="Прямоугольник 4"/>
          <p:cNvSpPr/>
          <p:nvPr/>
        </p:nvSpPr>
        <p:spPr>
          <a:xfrm>
            <a:off x="1332000" y="836640"/>
            <a:ext cx="73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но посвящено орфографическим навыкам. В микротексте пропущены буквы, пропуски пронумерованы. Надо внести в бланк ответов те цифры, на месте которых пишется определённая буква (например, И)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3" name="Заголовок 1"/>
          <p:cNvSpPr/>
          <p:nvPr/>
        </p:nvSpPr>
        <p:spPr>
          <a:xfrm>
            <a:off x="1332000" y="4357800"/>
            <a:ext cx="6683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Как выполняем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4" name="TextBox 6"/>
          <p:cNvSpPr/>
          <p:nvPr/>
        </p:nvSpPr>
        <p:spPr>
          <a:xfrm>
            <a:off x="882720" y="5057640"/>
            <a:ext cx="7759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нимательно читаем каждое предложение: акцент на осмысление прочитанного!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Делаем морфемный разбор слова, в котором пропущена буква. Если надо (например, орфограмма в окончании), определяем часть речи.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именяем нужное правило и вписываем букву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имательно выписываем в строку ответа подходящие цифры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684840" cy="5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78dbb"/>
                </a:solidFill>
                <a:latin typeface="Century Gothic"/>
              </a:rPr>
              <a:t>Задание 8</a:t>
            </a:r>
            <a:endParaRPr b="0" lang="en-US" sz="32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216" name="Picture 2" descr=""/>
          <p:cNvPicPr/>
          <p:nvPr/>
        </p:nvPicPr>
        <p:blipFill>
          <a:blip r:embed="rId1"/>
          <a:srcRect l="11745" t="41850" r="8844" b="37357"/>
          <a:stretch/>
        </p:blipFill>
        <p:spPr>
          <a:xfrm>
            <a:off x="1228680" y="2997360"/>
            <a:ext cx="7628040" cy="1498320"/>
          </a:xfrm>
          <a:prstGeom prst="rect">
            <a:avLst/>
          </a:prstGeom>
          <a:ln w="0">
            <a:noFill/>
          </a:ln>
        </p:spPr>
      </p:pic>
      <p:sp>
        <p:nvSpPr>
          <p:cNvPr id="1217" name="Прямоугольник 4"/>
          <p:cNvSpPr/>
          <p:nvPr/>
        </p:nvSpPr>
        <p:spPr>
          <a:xfrm>
            <a:off x="1258920" y="851040"/>
            <a:ext cx="76294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Надо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поставить слово в правильную форму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(вставить в указанное предложение). Встречаются слова разных частей речи: существительные, прилагательные, глаголы, числительные. Предлагаются формы слов, вызывающие наибольшее затруднение: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Р.п. и И.п. мн.ч., другие формы существительных (</a:t>
            </a:r>
            <a:r>
              <a:rPr b="0" i="1" lang="ru-RU" sz="1400" spc="-1" strike="noStrike">
                <a:solidFill>
                  <a:srgbClr val="000000"/>
                </a:solidFill>
                <a:latin typeface="Century Gothic"/>
              </a:rPr>
              <a:t>сапог, помидоров; месяцы, доктора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сравнительная степень прилагательных (</a:t>
            </a:r>
            <a:r>
              <a:rPr b="0" i="1" lang="ru-RU" sz="1400" spc="-1" strike="noStrike">
                <a:solidFill>
                  <a:srgbClr val="000000"/>
                </a:solidFill>
                <a:latin typeface="Century Gothic"/>
              </a:rPr>
              <a:t>лучше, меньше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повелительное наклонение и другие формы глаголов (</a:t>
            </a:r>
            <a:r>
              <a:rPr b="0" i="1" lang="ru-RU" sz="1400" spc="-1" strike="noStrike">
                <a:solidFill>
                  <a:srgbClr val="000000"/>
                </a:solidFill>
                <a:latin typeface="Century Gothic"/>
              </a:rPr>
              <a:t>лягте, разожжет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косвенные падежи количественных числительных (</a:t>
            </a:r>
            <a:r>
              <a:rPr b="0" i="1" lang="ru-RU" sz="1400" spc="-1" strike="noStrike">
                <a:solidFill>
                  <a:srgbClr val="000000"/>
                </a:solidFill>
                <a:latin typeface="Century Gothic"/>
              </a:rPr>
              <a:t>свыше пятисот, обеим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) и др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8" name="TextBox 6"/>
          <p:cNvSpPr/>
          <p:nvPr/>
        </p:nvSpPr>
        <p:spPr>
          <a:xfrm>
            <a:off x="1619280" y="4473720"/>
            <a:ext cx="41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8dbb"/>
                </a:solidFill>
                <a:latin typeface="Century Gothic"/>
              </a:rPr>
              <a:t>Как выполняем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9" name="TextBox 8"/>
          <p:cNvSpPr/>
          <p:nvPr/>
        </p:nvSpPr>
        <p:spPr>
          <a:xfrm>
            <a:off x="1173240" y="5013360"/>
            <a:ext cx="7683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нимательно читаем предложение: акцент на осмысление прочитанного!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споминаем правильную форму слова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подготовке используем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 заучивания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емонический мет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нимательно вписываем в строку ответа слово в нужной форме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щая внимание на орфографию!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Рисунок 3" descr=""/>
          <p:cNvPicPr/>
          <p:nvPr/>
        </p:nvPicPr>
        <p:blipFill>
          <a:blip r:embed="rId1"/>
          <a:stretch/>
        </p:blipFill>
        <p:spPr>
          <a:xfrm>
            <a:off x="995400" y="4292640"/>
            <a:ext cx="3222720" cy="241776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2" descr="Picture background"/>
          <p:cNvPicPr/>
          <p:nvPr/>
        </p:nvPicPr>
        <p:blipFill>
          <a:blip r:embed="rId2"/>
          <a:stretch/>
        </p:blipFill>
        <p:spPr>
          <a:xfrm>
            <a:off x="971640" y="184320"/>
            <a:ext cx="3168720" cy="4028760"/>
          </a:xfrm>
          <a:prstGeom prst="rect">
            <a:avLst/>
          </a:prstGeom>
          <a:ln w="0">
            <a:noFill/>
          </a:ln>
        </p:spPr>
      </p:pic>
      <p:pic>
        <p:nvPicPr>
          <p:cNvPr id="1222" name="Рисунок 5" descr=""/>
          <p:cNvPicPr/>
          <p:nvPr/>
        </p:nvPicPr>
        <p:blipFill>
          <a:blip r:embed="rId3"/>
          <a:srcRect l="0" t="9834" r="0" b="0"/>
          <a:stretch/>
        </p:blipFill>
        <p:spPr>
          <a:xfrm>
            <a:off x="4827600" y="3633840"/>
            <a:ext cx="3511440" cy="3076560"/>
          </a:xfrm>
          <a:prstGeom prst="rect">
            <a:avLst/>
          </a:prstGeom>
          <a:ln w="0">
            <a:noFill/>
          </a:ln>
        </p:spPr>
      </p:pic>
      <p:sp>
        <p:nvSpPr>
          <p:cNvPr id="1223" name="TextBox 6"/>
          <p:cNvSpPr/>
          <p:nvPr/>
        </p:nvSpPr>
        <p:spPr>
          <a:xfrm>
            <a:off x="4743360" y="227160"/>
            <a:ext cx="38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b4e6"/>
                </a:solidFill>
                <a:latin typeface="Century Gothic"/>
              </a:rPr>
              <a:t>Склонению числительных –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b4e6"/>
                </a:solidFill>
                <a:latin typeface="Century Gothic"/>
              </a:rPr>
              <a:t>особое внимание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24" name="Picture 4" descr="Picture background"/>
          <p:cNvPicPr/>
          <p:nvPr/>
        </p:nvPicPr>
        <p:blipFill>
          <a:blip r:embed="rId4"/>
          <a:stretch/>
        </p:blipFill>
        <p:spPr>
          <a:xfrm>
            <a:off x="4832280" y="981000"/>
            <a:ext cx="3541680" cy="2652840"/>
          </a:xfrm>
          <a:prstGeom prst="rect">
            <a:avLst/>
          </a:prstGeom>
          <a:ln w="0">
            <a:noFill/>
          </a:ln>
        </p:spPr>
      </p:pic>
      <p:sp>
        <p:nvSpPr>
          <p:cNvPr id="1225" name="Прямая соединительная линия 8"/>
          <p:cNvSpPr/>
          <p:nvPr/>
        </p:nvSpPr>
        <p:spPr>
          <a:xfrm>
            <a:off x="4427640" y="227160"/>
            <a:ext cx="0" cy="6446520"/>
          </a:xfrm>
          <a:prstGeom prst="line">
            <a:avLst/>
          </a:prstGeom>
          <a:ln cap="rnd"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557000" y="393840"/>
            <a:ext cx="6683400" cy="6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Задание 12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1187280" y="981000"/>
            <a:ext cx="7732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дание 12 похоже на прежнее 8, но стало сложнее. Если раньше слово, которое надо заменить стилистически нейтральным, было дано в формулировке задания, то теперь слово с заданной характеристикой надо сначала найти в указанном отрывк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28" name="Picture 2" descr=""/>
          <p:cNvPicPr/>
          <p:nvPr/>
        </p:nvPicPr>
        <p:blipFill>
          <a:blip r:embed="rId1"/>
          <a:srcRect l="8858" t="35438" r="6179" b="45861"/>
          <a:stretch/>
        </p:blipFill>
        <p:spPr>
          <a:xfrm>
            <a:off x="755640" y="2395440"/>
            <a:ext cx="8209080" cy="1368360"/>
          </a:xfrm>
          <a:prstGeom prst="rect">
            <a:avLst/>
          </a:prstGeom>
          <a:ln w="0">
            <a:noFill/>
          </a:ln>
        </p:spPr>
      </p:pic>
      <p:sp>
        <p:nvSpPr>
          <p:cNvPr id="1229" name="TextBox 4"/>
          <p:cNvSpPr/>
          <p:nvPr/>
        </p:nvSpPr>
        <p:spPr>
          <a:xfrm>
            <a:off x="1557360" y="38718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8dbb"/>
                </a:solidFill>
                <a:latin typeface="Century Gothic"/>
              </a:rPr>
              <a:t>Как выполняем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0" name="TextBox 5"/>
          <p:cNvSpPr/>
          <p:nvPr/>
        </p:nvSpPr>
        <p:spPr>
          <a:xfrm>
            <a:off x="1057320" y="4476600"/>
            <a:ext cx="768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нимательно читаем предложения:  все то же осмысление прочитанного!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Ищем нужное слово или фразеологизм. В задании 12 встречаются синонимы, антонимы, слова высокого стиля речи, разговорные (просторечные) слова, фразеологизмы. Особое внимание – «незаметным» фразеологизмам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необходимости заменяем другим словом и записываем ответ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щая внимание на орфографию!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Итог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1941480" y="1412640"/>
            <a:ext cx="66866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дводя итог, можно сказать, что тестовая часть стала разнообразнее, но сложнее: времени и сил на подготовку придётся затратить больш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174680" y="260280"/>
            <a:ext cx="79502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78dbb"/>
                </a:solidFill>
                <a:latin typeface="Century Gothic"/>
              </a:rPr>
              <a:t>В 2024 году изменения коснулись ОГЭ по русскому языку и литературе</a:t>
            </a:r>
            <a:br>
              <a:rPr sz="3200"/>
            </a:br>
            <a:endParaRPr b="0" lang="en-US" sz="32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179" name="Picture 2" descr="Изменения в КИМ ОГЭ 2024"/>
          <p:cNvPicPr/>
          <p:nvPr/>
        </p:nvPicPr>
        <p:blipFill>
          <a:blip r:embed="rId1"/>
          <a:stretch/>
        </p:blipFill>
        <p:spPr>
          <a:xfrm>
            <a:off x="826920" y="1484280"/>
            <a:ext cx="8128080" cy="5200560"/>
          </a:xfrm>
          <a:prstGeom prst="rect">
            <a:avLst/>
          </a:prstGeom>
          <a:ln w="0">
            <a:noFill/>
          </a:ln>
        </p:spPr>
      </p:pic>
      <p:sp>
        <p:nvSpPr>
          <p:cNvPr id="1180" name="Прямая соединительная линия 5"/>
          <p:cNvSpPr/>
          <p:nvPr/>
        </p:nvSpPr>
        <p:spPr>
          <a:xfrm>
            <a:off x="3276720" y="5732640"/>
            <a:ext cx="4464000" cy="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618920" y="620280"/>
            <a:ext cx="66848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8dbb"/>
                </a:solidFill>
                <a:latin typeface="Century Gothic"/>
              </a:rPr>
              <a:t>Теперь в экзамене не 7, </a:t>
            </a:r>
            <a:br>
              <a:rPr sz="3600"/>
            </a:br>
            <a:r>
              <a:rPr b="1" lang="ru-RU" sz="3600" spc="-1" strike="noStrike">
                <a:solidFill>
                  <a:srgbClr val="178dbb"/>
                </a:solidFill>
                <a:latin typeface="Century Gothic"/>
              </a:rPr>
              <a:t>а 11 тестовых заданий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82" name="TextBox 5"/>
          <p:cNvSpPr/>
          <p:nvPr/>
        </p:nvSpPr>
        <p:spPr>
          <a:xfrm>
            <a:off x="684360" y="1917720"/>
            <a:ext cx="8388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Соответственно, изменились номера привычных заданий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2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бывшее №2: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определение грамматических основ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3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Century Gothic"/>
              </a:rPr>
              <a:t>новое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: синтаксический анализ предложений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4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Century Gothic"/>
              </a:rPr>
              <a:t>новое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: синтаксический и пунктуационный анализ предложений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5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бывшее №3: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пунктуация, расставить знаки препинания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6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бывшее №5: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орфографический анализ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7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Century Gothic"/>
              </a:rPr>
              <a:t>новое: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орфография, вставить пропущенные буквы.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8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Century Gothic"/>
              </a:rPr>
              <a:t>новое: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грамматические нормы, поставить слово в нужную форму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9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бывшее №4: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замена словосочетания на синонимичное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я 10, 11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бывшие №№6 и 7: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работа с текстом, лексика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12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1" lang="ru-RU" sz="1600" spc="-1" strike="noStrike">
                <a:solidFill>
                  <a:srgbClr val="ff0000"/>
                </a:solidFill>
                <a:latin typeface="Century Gothic"/>
              </a:rPr>
              <a:t>похожее на прежнее №8, но сложнее: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лексический анализ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Что используем в работе?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1947600" y="1491840"/>
            <a:ext cx="66862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Сборник «Типовые экзаменационные варианты» под редакцией Дощинского и Цыбулько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«Учебная книга участника ОГЭ» под редакцией Цыбулько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Папка с теоретическим материалом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5" name="Picture 4" descr="ОГЭ-2025. Русский язык: типовые экзаменационные варианты: 36 вариантов (Национальное образование)"/>
          <p:cNvPicPr/>
          <p:nvPr/>
        </p:nvPicPr>
        <p:blipFill>
          <a:blip r:embed="rId1"/>
          <a:stretch/>
        </p:blipFill>
        <p:spPr>
          <a:xfrm>
            <a:off x="2189160" y="3141720"/>
            <a:ext cx="2382840" cy="3173400"/>
          </a:xfrm>
          <a:prstGeom prst="rect">
            <a:avLst/>
          </a:prstGeom>
          <a:ln w="0">
            <a:noFill/>
          </a:ln>
        </p:spPr>
      </p:pic>
      <p:sp>
        <p:nvSpPr>
          <p:cNvPr id="1186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7" name="AutoShape 8"/>
          <p:cNvSpPr/>
          <p:nvPr/>
        </p:nvSpPr>
        <p:spPr>
          <a:xfrm>
            <a:off x="4572000" y="3429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88" name="Picture 16" descr=""/>
          <p:cNvPicPr/>
          <p:nvPr/>
        </p:nvPicPr>
        <p:blipFill>
          <a:blip r:embed="rId2"/>
          <a:stretch/>
        </p:blipFill>
        <p:spPr>
          <a:xfrm>
            <a:off x="5148360" y="3146400"/>
            <a:ext cx="2382840" cy="3164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Задания 2 и 3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1334880" y="1539720"/>
            <a:ext cx="66834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Оба выполняются по маленькому тексту, помещенному в начале тестовой части. Текст состоит </a:t>
            </a:r>
            <a:r>
              <a:rPr b="1" i="1" lang="ru-RU" sz="1600" spc="-1" strike="noStrike" u="sng">
                <a:solidFill>
                  <a:srgbClr val="404040"/>
                </a:solidFill>
                <a:uFillTx/>
                <a:latin typeface="Century Gothic"/>
              </a:rPr>
              <a:t>из пяти предложений</a:t>
            </a:r>
            <a:r>
              <a:rPr b="0" lang="ru-RU" sz="1600" spc="-1" strike="noStrike" u="sng">
                <a:solidFill>
                  <a:srgbClr val="404040"/>
                </a:solidFill>
                <a:uFillTx/>
                <a:latin typeface="Century Gothic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entury Gothic"/>
              </a:rPr>
              <a:t>Задание 2 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заключается в необходимости определить основы предложений и выбрать те варианты ответов, в которых указаны верные основы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entury Gothic"/>
              </a:rPr>
              <a:t>Задание 3 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ключает в себя различную информацию по синтаксису этих предложений, кроме конкретного состава грамматических основ: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- односоставное или двусоставное;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- тип сказуемого;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- связь частей сложного предложения;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- виды придаточных предложений;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- разные виды осложнений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i="1" lang="ru-RU" sz="1600" spc="-1" strike="noStrike">
                <a:solidFill>
                  <a:srgbClr val="404040"/>
                </a:solidFill>
                <a:latin typeface="Century Gothic"/>
              </a:rPr>
              <a:t>и другие характеристики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1" name="Picture 2" descr="https://avatars.dzeninfra.ru/get-zen_doc/1720666/pub_64e839f6bc779f74a9e78645_64e83e7df6ccc15bd1145657/scale_2400"/>
          <p:cNvPicPr/>
          <p:nvPr/>
        </p:nvPicPr>
        <p:blipFill>
          <a:blip r:embed="rId1"/>
          <a:stretch/>
        </p:blipFill>
        <p:spPr>
          <a:xfrm>
            <a:off x="1979640" y="2519280"/>
            <a:ext cx="5551560" cy="4162680"/>
          </a:xfrm>
          <a:prstGeom prst="rect">
            <a:avLst/>
          </a:prstGeom>
          <a:ln w="0">
            <a:noFill/>
          </a:ln>
        </p:spPr>
      </p:pic>
      <p:pic>
        <p:nvPicPr>
          <p:cNvPr id="1192" name="Рисунок 2" descr=""/>
          <p:cNvPicPr/>
          <p:nvPr/>
        </p:nvPicPr>
        <p:blipFill>
          <a:blip r:embed="rId2"/>
          <a:stretch/>
        </p:blipFill>
        <p:spPr>
          <a:xfrm>
            <a:off x="1979640" y="44280"/>
            <a:ext cx="5551560" cy="234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TextBox 2"/>
          <p:cNvSpPr/>
          <p:nvPr/>
        </p:nvSpPr>
        <p:spPr>
          <a:xfrm>
            <a:off x="1200240" y="1058760"/>
            <a:ext cx="7522920" cy="53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имательно читаем текст и каждое предложение: акцент на осмысление прочитанного!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   Работаем с каждым предложением в таком порядке: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 подчеркиваем основу (основы) предложения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водим союзы и союзные слова, соединяющие простые предложения в сложном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авляем круглые и квадратные скобки, разделяя сложные предложения на простые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яем задание 2, сверяя основы с предложенными в задании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яем задание 3, опираясь на разметку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утверждение связано с осложнениями простых предложений, находим и графически обозначаем осложнение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Язы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это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еркало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торо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тои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ежду нами и миром, отражая общие представления всех говорящих на нем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чем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еркал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языка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ража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 все свойства окружающей действительности, а только те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тор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азалис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собенно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ажным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едкам –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осителям этого языка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, в языках некоторых северных народов: эскимосов, чукчей, коряков –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уществу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ножество названий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нега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[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Люд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онимают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нег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нима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их жизни заметное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есто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его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личест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остоя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цв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чень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ажны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ждый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язы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ража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артину мира и через грамматику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этому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уществую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язы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имеющие более тридцати падежей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тор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лужат способом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указать точное положение предмета в пространстве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4" name="Заголовок 1"/>
          <p:cNvSpPr/>
          <p:nvPr/>
        </p:nvSpPr>
        <p:spPr>
          <a:xfrm>
            <a:off x="1619280" y="260280"/>
            <a:ext cx="6684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Как выполняем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5" name="Овал 4"/>
          <p:cNvSpPr/>
          <p:nvPr/>
        </p:nvSpPr>
        <p:spPr>
          <a:xfrm>
            <a:off x="3800520" y="3525840"/>
            <a:ext cx="700200" cy="237960"/>
          </a:xfrm>
          <a:prstGeom prst="ellipse">
            <a:avLst/>
          </a:prstGeom>
          <a:noFill/>
          <a:ln cap="rnd"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6" name="Рисунок 5" descr=""/>
          <p:cNvPicPr/>
          <p:nvPr/>
        </p:nvPicPr>
        <p:blipFill>
          <a:blip r:embed="rId1"/>
          <a:stretch/>
        </p:blipFill>
        <p:spPr>
          <a:xfrm>
            <a:off x="4500720" y="4221000"/>
            <a:ext cx="736560" cy="238320"/>
          </a:xfrm>
          <a:prstGeom prst="rect">
            <a:avLst/>
          </a:prstGeom>
          <a:ln w="0">
            <a:noFill/>
          </a:ln>
        </p:spPr>
      </p:pic>
      <p:pic>
        <p:nvPicPr>
          <p:cNvPr id="1197" name="Рисунок 6" descr=""/>
          <p:cNvPicPr/>
          <p:nvPr/>
        </p:nvPicPr>
        <p:blipFill>
          <a:blip r:embed="rId2"/>
          <a:stretch/>
        </p:blipFill>
        <p:spPr>
          <a:xfrm>
            <a:off x="7885080" y="5678640"/>
            <a:ext cx="736560" cy="288720"/>
          </a:xfrm>
          <a:prstGeom prst="rect">
            <a:avLst/>
          </a:prstGeom>
          <a:ln w="0">
            <a:noFill/>
          </a:ln>
        </p:spPr>
      </p:pic>
      <p:pic>
        <p:nvPicPr>
          <p:cNvPr id="1198" name="Рисунок 8" descr=""/>
          <p:cNvPicPr/>
          <p:nvPr/>
        </p:nvPicPr>
        <p:blipFill>
          <a:blip r:embed="rId3"/>
          <a:stretch/>
        </p:blipFill>
        <p:spPr>
          <a:xfrm>
            <a:off x="7147080" y="5967360"/>
            <a:ext cx="738000" cy="236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Рисунок 5" descr=""/>
          <p:cNvPicPr/>
          <p:nvPr/>
        </p:nvPicPr>
        <p:blipFill>
          <a:blip r:embed="rId1"/>
          <a:srcRect l="8968" t="0" r="0" b="0"/>
          <a:stretch/>
        </p:blipFill>
        <p:spPr>
          <a:xfrm>
            <a:off x="4284720" y="836640"/>
            <a:ext cx="4608360" cy="590544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Задание 4. </a:t>
            </a:r>
            <a:br>
              <a:rPr sz="3600"/>
            </a:b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1339560" y="981000"/>
            <a:ext cx="230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дание 4 </a:t>
            </a:r>
            <a:r>
              <a:rPr b="1" lang="ru-RU" sz="1800" spc="-1" strike="noStrike">
                <a:solidFill>
                  <a:srgbClr val="ff0000"/>
                </a:solidFill>
                <a:latin typeface="Century Gothic"/>
              </a:rPr>
              <a:t>очень похоже на задание 8 из ЕГЭ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. Нужно сопоставить правило и пример к нему, причем примеров больше, чем правил, и это уже не те предложения, что в первом тексте. Предложений пять, правил три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TextBox 3"/>
          <p:cNvSpPr/>
          <p:nvPr/>
        </p:nvSpPr>
        <p:spPr>
          <a:xfrm>
            <a:off x="4427640" y="2127240"/>
            <a:ext cx="4392360" cy="39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Язы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Times New Roman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еркало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торо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тои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ежду нами и миром, отражая общие представления всех говорящих на нем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чем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еркал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язык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ражае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 все свойства окружающей действительности, а только те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торы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азалис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собенно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ажны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едкам –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осителям этого язык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, в языках некоторых северных народов: эскимосов, чукчей, коряков –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уществуе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ножество названи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нег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[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Люд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онимают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]</a:t>
            </a:r>
            <a:r>
              <a:rPr b="1" lang="ru-RU" sz="1400" spc="-1" strike="noStrike">
                <a:solidFill>
                  <a:srgbClr val="00b0f0"/>
                </a:solidFill>
                <a:latin typeface="Times New Roman"/>
                <a:ea typeface="Calibri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нег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нимае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их жизни заметное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есто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его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личест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остоя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цве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чень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ажны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ждый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язы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ражае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артину мира и через грамматику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этому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уществую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языки</a:t>
            </a:r>
            <a:r>
              <a:rPr b="1" lang="ru-RU" sz="1600" spc="-1" strike="noStrike">
                <a:solidFill>
                  <a:srgbClr val="00b0f0"/>
                </a:solidFill>
                <a:latin typeface="Times New Roman"/>
                <a:ea typeface="Calibri"/>
              </a:rPr>
              <a:t>, </a:t>
            </a:r>
            <a:r>
              <a:rPr b="1" lang="en-US" sz="1400" spc="-1" strike="noStrike" u="sng">
                <a:solidFill>
                  <a:srgbClr val="00b0f0"/>
                </a:solidFill>
                <a:uFillTx/>
                <a:latin typeface="Times New Roman"/>
                <a:ea typeface="Calibri"/>
              </a:rPr>
              <a:t>/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имеющие более тридцати падежей</a:t>
            </a:r>
            <a:r>
              <a:rPr b="1" lang="en-US" sz="1400" spc="-1" strike="noStrike" u="sng">
                <a:solidFill>
                  <a:srgbClr val="00b0f0"/>
                </a:solidFill>
                <a:uFillTx/>
                <a:latin typeface="Times New Roman"/>
                <a:ea typeface="Calibri"/>
              </a:rPr>
              <a:t>/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)</a:t>
            </a:r>
            <a:r>
              <a:rPr b="1" lang="ru-RU" sz="1600" spc="-1" strike="noStrike">
                <a:solidFill>
                  <a:srgbClr val="00b0f0"/>
                </a:solidFill>
                <a:latin typeface="Times New Roman"/>
                <a:ea typeface="Calibri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торы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лужат способом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казать точное положение предмета в пространстве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3" name="Рисунок 4" descr=""/>
          <p:cNvPicPr/>
          <p:nvPr/>
        </p:nvPicPr>
        <p:blipFill>
          <a:blip r:embed="rId1"/>
          <a:srcRect l="8968" t="12197" r="46941" b="43905"/>
          <a:stretch/>
        </p:blipFill>
        <p:spPr>
          <a:xfrm>
            <a:off x="539640" y="2060640"/>
            <a:ext cx="3533760" cy="4105080"/>
          </a:xfrm>
          <a:prstGeom prst="rect">
            <a:avLst/>
          </a:prstGeom>
          <a:ln w="0">
            <a:noFill/>
          </a:ln>
        </p:spPr>
      </p:pic>
      <p:sp>
        <p:nvSpPr>
          <p:cNvPr id="1204" name="Заголовок 1"/>
          <p:cNvSpPr/>
          <p:nvPr/>
        </p:nvSpPr>
        <p:spPr>
          <a:xfrm>
            <a:off x="1306440" y="123840"/>
            <a:ext cx="6685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Как выполняем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5" name="TextBox 9"/>
          <p:cNvSpPr/>
          <p:nvPr/>
        </p:nvSpPr>
        <p:spPr>
          <a:xfrm>
            <a:off x="1332000" y="765000"/>
            <a:ext cx="748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имательно читаем каждое предложение: акцент на осмысление прочитанного!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   Подчеркиваем основы и скобками обозначаем простые предложения, аналогично заданиям №№2 и 3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  Находим и обозначаем графически осложнения простых предложений, о которых говорится в задании №4. В этом нам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могают знаки препинания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 которых говорится в ответах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6" name="Прямая соединительная линия 10"/>
          <p:cNvSpPr/>
          <p:nvPr/>
        </p:nvSpPr>
        <p:spPr>
          <a:xfrm flipV="1">
            <a:off x="3929040" y="2421000"/>
            <a:ext cx="719280" cy="1800000"/>
          </a:xfrm>
          <a:prstGeom prst="line">
            <a:avLst/>
          </a:prstGeom>
          <a:ln cap="rnd"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7" name="Прямая соединительная линия 12"/>
          <p:cNvSpPr/>
          <p:nvPr/>
        </p:nvSpPr>
        <p:spPr>
          <a:xfrm>
            <a:off x="3851280" y="2852640"/>
            <a:ext cx="649440" cy="2160720"/>
          </a:xfrm>
          <a:prstGeom prst="line">
            <a:avLst/>
          </a:prstGeom>
          <a:ln cap="rnd"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8" name="Прямая соединительная линия 14"/>
          <p:cNvSpPr/>
          <p:nvPr/>
        </p:nvSpPr>
        <p:spPr>
          <a:xfrm flipV="1">
            <a:off x="3851280" y="4508640"/>
            <a:ext cx="576360" cy="720720"/>
          </a:xfrm>
          <a:prstGeom prst="line">
            <a:avLst/>
          </a:prstGeom>
          <a:ln cap="rnd"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9" name="Рисунок 16" descr=""/>
          <p:cNvPicPr/>
          <p:nvPr/>
        </p:nvPicPr>
        <p:blipFill>
          <a:blip r:embed="rId2"/>
          <a:srcRect l="11113" t="85374" r="7813" b="1218"/>
          <a:stretch/>
        </p:blipFill>
        <p:spPr>
          <a:xfrm>
            <a:off x="544680" y="6051600"/>
            <a:ext cx="4103640" cy="792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8-27T10:14:53Z</dcterms:created>
  <dc:creator>User</dc:creator>
  <dc:description/>
  <dc:language>en-US</dc:language>
  <cp:lastModifiedBy>УМЦ</cp:lastModifiedBy>
  <dcterms:modified xsi:type="dcterms:W3CDTF">2025-04-09T06:30:07Z</dcterms:modified>
  <cp:revision>16</cp:revision>
  <dc:subject/>
  <dc:title>ИЗМЕНЕНИЯ в ОГЭ</dc:title>
</cp:coreProperties>
</file>